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406-1F83-4E86-ADE6-986923FF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874-771D-468A-A65D-279661F3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8CF-8E5A-46B9-94BA-660FE847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88C-F7D2-4371-8968-E1455C6E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B82-EC0E-4D1A-81BD-FBD7D784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4F6A-F583-4965-87B9-D52FAE0D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2BA-0BD2-4A70-B5B0-4D840F9E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2EA-D70D-4057-87B9-52873E77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337-171D-465B-B218-3033299B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4A5-4BF9-4044-9FB6-82B0C327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91F-DD25-49A8-823A-0016EDB8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300-1545-4D1C-86B7-74DE1033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1980-59A7-4797-B630-43035866F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9520" y="2786040"/>
            <a:ext cx="8248680" cy="369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Бог, моя Цар, ще царува завинаг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аз ще Го слав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мето Му ще прославям 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инаг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Той е вечен Бо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19040" y="3110040"/>
            <a:ext cx="8267760" cy="28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равдата Му живее от век на 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Целият свят ще чуе чудната вес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Бог, моя цар, ще царува завинаг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7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38120" y="2786040"/>
            <a:ext cx="8248680" cy="369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Бог, моя Цар, ще царува завинаг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аз ще Го слав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мето Му ще прославям 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инаг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Той е вечен Бо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7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19040" y="3733920"/>
            <a:ext cx="8267760" cy="28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равдата Му живее от век на 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Целият свят ще чуе чудната вес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Бог, моя цар, ще царува завинаг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Бог, моя цар, ще царува завинаг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3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13:34Z</dcterms:created>
  <dc:creator>TrifonTrifonow</dc:creator>
  <dc:description/>
  <dc:language>en-US</dc:language>
  <cp:lastModifiedBy>TrifonTrifonow</cp:lastModifiedBy>
  <dcterms:modified xsi:type="dcterms:W3CDTF">2005-12-15T06:14:04Z</dcterms:modified>
  <cp:revision>1</cp:revision>
  <dc:subject/>
  <dc:title>Slide 1</dc:title>
</cp:coreProperties>
</file>